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B98-44A1-445C-814B-06A2B79C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72C-D746-4589-9AF1-AB83774F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947-AF83-403B-88F9-854FA298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1C4-938B-4B6F-AC68-2325DB16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53B-B67B-4ACF-8215-C5070BE7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F37-FD41-4E29-A606-764E2D92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558-D23C-43CF-BFC6-C44D25BF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684-47A5-4AB3-9F6F-CD50E86F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358-9553-4E81-8BDC-B861FE8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14B-19A0-44D5-80C5-318A2BA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EFC-4930-4FF1-A052-3AD3C5A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48E-83D9-4D1A-8B60-36E17927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6073-09A3-42B2-88A2-124B40878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3880" y="2286000"/>
            <a:ext cx="38102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François, Directeur génér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Brigitte, Directeur financier et du S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Directeur des engag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Pauline, Directeur commercial et qualité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Fannie, Directeur opérations bancai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Nicole, DR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30560" y="4495680"/>
            <a:ext cx="23968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Yoha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Pierre, Chef du service courri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Antoine, Organisateu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33760" y="6095880"/>
            <a:ext cx="3095640" cy="12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naïs, Chef du service market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udrey, Chef du service informatiqu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exandra, Responsable communi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Contrôleur de ges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5" name="AutoShape 7"/>
          <p:cNvCxnSpPr>
            <a:stCxn id="42" idx="2"/>
            <a:endCxn id="43" idx="0"/>
          </p:cNvCxnSpPr>
          <p:nvPr/>
        </p:nvCxnSpPr>
        <p:spPr>
          <a:xfrm rot="5400000">
            <a:off x="2192040" y="4859280"/>
            <a:ext cx="835200" cy="16387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AutoShape 8"/>
          <p:cNvCxnSpPr>
            <a:stCxn id="42" idx="2"/>
            <a:endCxn id="44" idx="0"/>
          </p:cNvCxnSpPr>
          <p:nvPr/>
        </p:nvCxnSpPr>
        <p:spPr>
          <a:xfrm flipH="1" rot="16200000">
            <a:off x="3837960" y="4852080"/>
            <a:ext cx="835200" cy="165276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AutoShape 9"/>
          <p:cNvCxnSpPr>
            <a:stCxn id="41" idx="2"/>
            <a:endCxn id="42" idx="0"/>
          </p:cNvCxnSpPr>
          <p:nvPr/>
        </p:nvCxnSpPr>
        <p:spPr>
          <a:xfrm>
            <a:off x="3429000" y="4038480"/>
            <a:ext cx="36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Rectangle 10"/>
          <p:cNvSpPr/>
          <p:nvPr/>
        </p:nvSpPr>
        <p:spPr>
          <a:xfrm>
            <a:off x="228600" y="7696080"/>
            <a:ext cx="312408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 de travai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La secrétaire du DG et les secrétaires de direction et de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" name="AutoShape 11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38Z</dcterms:modified>
  <cp:revision>101</cp:revision>
  <dc:subject/>
  <dc:title>Présentation PowerPoint</dc:title>
</cp:coreProperties>
</file>